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782D-C94D-40F2-AE21-392F9D5FD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6902-5F5A-42EC-977D-00C92907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B280-97BC-48BD-8FD4-B7E1D881D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8384-BD75-44DE-8C4A-1E1532155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165B-63D1-4E11-A871-A73B346A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0D21-2FA3-4FF3-A1C5-9908F0FA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E10C-C000-42DE-963A-1ACF62CA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19EC-46BC-43D1-A136-ADF397CC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5968-08BC-4EDD-B599-31F1916C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B4FD-19BE-4FA9-8186-DAD0239B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C49B-3D1F-461F-9F03-EEC7B4B4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B4B0-456E-4FED-B672-E0CB0D5A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4C8E-D3AB-4660-A055-C57255C39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chem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al: insulation, pro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active: stored energy, some hormones, vita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glyceride: transported in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lyceride: used for body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cglyceride: store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 fats, oils, and w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turated Triglycer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ycerol + fatty acid ch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5462640" cy="35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urated: all bonds are occupied with hydrogen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aturated: double bonds leave room for more hydrogen atoms (liquid, healthi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genation: a process of saturating a lipid to help prevent spoiling, creates “Transfats” (solid, unhealth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: Ste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d when the body converts fatty acids into multiringed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lesterol: body structure, brain development, and fat di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x hormones (testosterone, estrogen, progesterone) promote sexual development, affect m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00400" y="4191120"/>
            <a:ext cx="373392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: Terpeno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, modified lip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an important role in fighting disease, include vita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tamin A: eyes, skin (eggs, carrots, spina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tamin B 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amin: nerves/heart (vegetables, nu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boflavin: skin/tissue repair (fish, green vegg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acin: skin (grain, tomato, be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12: red blood cells (meat, poultry, dai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: Terpeno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tamin C: gums, teeth, healing (frui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tamin D: gut, bones, teeth (fish, dai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tamin E: protection (oils, seeds, grai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tamin K: blood clotting (green veg, liv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562720" y="4419720"/>
            <a:ext cx="268596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genetic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31431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organic elements absorbed by living things from soil, water, or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ium: bones, teeth, nerves, clotting (dairy, tofu, gree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on: growth, blood (meat, grains, green veg, beans, eg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assium: fluid balance, nerves (meats, produ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dium: water balance, nerves (sal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abundant molecule in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es body temperature and transports material in the blood, removes wastes, protects joints/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chemistry: the chemistry of the body’s structures and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 Molecule: molecules that contain carbon and are found in and produced by 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active Molecule: molecules that promote chemical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al Molecule: molecules that compose body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Organic Molec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 (pepti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pids (fa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organic Molecules important to living th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rganic molecule consisting of C, H, and O in a 1:2:1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sugars: a quick source of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saccharides: glucose (blood), fructose (fru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ccharides: sucrose (table sugar), lactose (mil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781680" y="1371600"/>
            <a:ext cx="195120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carbohydrates: a gradual source of energy, fi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saccharides: glycogen (stored in liver, muscle), starch (potato, grains), cellulose (fiber- seeds, ski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proteins: build and repair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active proteins: enzymes (ex. digestion), most hormones (ex. emotions, grow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 in animals (chicken, meat, fish, eggs) and plants (beans, nu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ins made of building blocks called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20 amino acids, which can be arranged to form thousands of different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rgest protein contains 27,000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34120" y="1676520"/>
            <a:ext cx="35287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5:13:36Z</dcterms:created>
  <dc:creator>Administrator</dc:creator>
  <dc:description/>
  <dc:language>en-US</dc:language>
  <cp:lastModifiedBy>Administrator</cp:lastModifiedBy>
  <dcterms:modified xsi:type="dcterms:W3CDTF">2010-02-24T19:18:46Z</dcterms:modified>
  <cp:revision>3</cp:revision>
  <dc:subject/>
  <dc:title>Biochemistry</dc:title>
</cp:coreProperties>
</file>